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01F-910F-4EAD-934D-F0F0FBA6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468-E69F-4373-94A2-D989A63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F27-54D3-49F4-BC42-7E9533BA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D1B-41E9-484E-9B6B-D2A43A97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CE87-BC5C-44C8-91DB-051750CD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23EF-28AA-469C-B465-ECC53467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0228-C541-461D-8173-0162AD5E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E112-98F7-4778-8466-CE7EAC61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2A12-A5B5-4C4D-A342-39A990D0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5684-AAFC-4F34-A681-7E8ADA9E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A521-7118-4926-AA34-47B095D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6BD-9350-4F93-8CC5-F1268736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144B-14B7-45EC-AE39-65E0FBF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435B-FF5A-49A3-88F6-F73123F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3223-EE50-4A4C-8A29-08DD1009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0186-8C92-4767-B13D-BD9311C2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6C5B-390D-4A96-96EB-2DB18FE3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38EB-8838-4E79-BB43-27EC65FF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D64D-2A2B-4F0B-903A-C31C432A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99BF-99FD-4B5B-905D-DD75D747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B6C1-7FE7-41F5-9322-3DFD927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0C0B-D96E-4255-871A-E3B57A78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73E-F513-4EBE-8A13-36C6C7C3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F0B3-4A56-4D95-A795-215876E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2557-84F3-4409-BB36-D27F4438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445D-4142-474F-8499-4EE15169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D8F4-4AA3-4E56-BC9F-2B82A803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B478-D901-4480-A022-1109F99B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7F9C-D95E-4AE0-9CCC-BCA993FA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3A35-0435-4CD2-A505-7ECA063D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8F12-F6DD-45CB-92DB-2FABCDE6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E588-4450-4598-A9FF-C18ACC0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3A045-9AB4-482B-9024-940E29C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B98-45BF-4A6F-AB0C-E452CE8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5A07-4E59-4332-AFC7-4F7A4C8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5684-17DC-4414-9B49-2A25C282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2EB3-B1F2-4964-A570-C82D99B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15C5-CBAB-4F42-82E1-79852EA9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F0E5-D6E0-47CC-877E-6F72C26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F726-6F7C-4EB2-890F-E217A6B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918A-F7C6-4AFB-8581-7D6050D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AC24-2214-4DB8-8411-771658DA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6F8F-377C-45DC-9ECB-22431C96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E66-88EE-4ACB-BFFF-A43B225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E16-3BE4-4AC3-8698-81CDECD6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1CA-E870-43A9-A4CB-5BCF1464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D47-3247-44FB-8C44-3F1ACD0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136-664C-4DE1-98C7-1DE86C90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D707-0BB7-483E-B6DA-C75F770B404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011-9100-4432-AF99-4B7F762F571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2B0-B8DF-422C-9AA9-4F54DE84A28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D0D3-2959-4EDB-847D-CEE7DCFC2E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6/38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7/39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8/40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9/41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20/42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gse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3/35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4/36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5/37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H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Health C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versity of Pittsburgh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human Health Care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s by: Science teacher, one other teacher,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: Service Leadership Project in Health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IST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– Information, Society &amp;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             Technolog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209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rexel University, Philadelphia, P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elds: telecommunications, computer technology, networking, programming, media, multi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ation by: teacher who relies upon technical applications or math or science teacher, one other teacher and Guidance Counsel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International Stud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versity of Pittsburgh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: linguistically talented, articulate in political &amp; social sciences, and sensitive to cultural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 by: World Language teacher, Social Studies teacher 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The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negie Mellon University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: chemistry, physics, molecular biology, astrophysics, material science, forensic science, MATHEMATICS, COMPUTER SCIENCE Recommendations by: Science teacher, Math teacher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- Teach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lersville University, Millersville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: all levels and subjects of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s by: any two teachers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: Service Leadership Proposal addressing community educational n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 (All applicants) Paper Applic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Statement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-curricular resume (1-2 p. resu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ief Essay (2 p. essay based on “school’s” promp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ters of Recommendation (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, Report Card, Attendance, Stndrd. 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I – (semifinalists, selected from L 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Auditions or Intervi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lies to all “schools” except the AR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A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PGSE, School of the Arts requi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The PGS of the Arts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NOT require teacher recommend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r a resume, nor a Chief Ess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REQUIRE an artistic work sam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tistic recording or portfo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s “hand” delivery of application to CSI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–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to “sell” yourself to be notic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llow application guidelines exac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applicant’s responsibility to make sure the application has been filed in a timely and complete fashion, with the appropriate Intermediate Unit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– Application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ications available after Oc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by November 1, gathering your materials, information, selection of audition pieces (PGSA only), writing and rewriting essay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AP, ask appropriate staff for letters of recommendation – provide them with materials and information prepared abo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missions of completed applications vary by school, plan to be done by J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d applications to Guidance Counselors at least 2 days prior to “postmark” deadline,  Guidance will then mail them ou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PGSA PGSGE PGSHC PGSIST PGSIS PGSS PG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unds for Disqual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eligible (see each schools applica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teness of appli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ilure to send application to correct off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lete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all parts must be in at same time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sification of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 abiding by application guidel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t add unnecessary or neglect required i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81802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. Bruce Guent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fted Education Teac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rwick Area High 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ddition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ww.pgse.or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 on each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loadable application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ful Hints for applic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quently Asked Questions (FAQ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Calend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“At a Glanc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ruce Guenther, Gifted Education Teac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guenther@berwicksd.org  759-6400 x314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rs. Heather Melito, Guidance Counsel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melito@berwicksd.org   759-6400 x 310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st updated 23 October 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Pennsylvania Governor’s Schools of Excell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2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t. 2008.  The Pennsylvania Governor’s Schools o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llence.  23 Oct. 2008 &lt; http://www.pgse.org 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ennsylvania Governor’s Schools of Excellence (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E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cademically or artistically talented students, including the gif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but, not exclusivel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week, intensive, residential, program held during the sum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ight “schools,” held on different college campuses, based on eight career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ition, room &amp; board paid by the State; transportation, incidentals paid by fami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- FY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 application a two year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pply to no more than TWO    Pa. Governor’s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PGSE “School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ricultural Sciences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t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lobal Entrepreneurshi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alth Car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H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formation, Society &amp; Technology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I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national Studi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cienc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lumni from BH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tiny Deat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sh Gallagh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ristin Kemmerer - 2008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ivia DiPasquale - 2007 PGS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ista Johnson - 2007 PG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m Gerlach – 2006 PG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ily Odgrin – 2006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ie Brown – 2005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ane Swank - 2005 PGSA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link to Application Process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A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Agricultur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ennsylvania State University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iversity Park, P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elds: renewable resources, environmental studies, genetic engineering, food development &amp; management, water quality, Veterinary medicine, plant science, geospatial technology, toxicology, forestry, wildlife 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ation by: Science teacher, one other teacher, and Guidance Counse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The 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rcyhurst College, Erie, P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eld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ive writing, dance, performance theater, theater design, music (voice, instrumental &amp; composition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ual Arts I: drawing, painting, graphic arts, sculp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ual Arts II: Photogra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quires artistic recording or portfol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G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– Global Entrepreneurshi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high University, Bethlehem, 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: Business, finance, e-commerce (with recognition of globalization of econom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 by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 or Social Studies teacher,      English teacher and Guidance Counse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9:28:33Z</dcterms:created>
  <dc:creator>Guenther Family</dc:creator>
  <dc:description/>
  <dc:language>en-US</dc:language>
  <cp:lastModifiedBy>bguenther</cp:lastModifiedBy>
  <dcterms:modified xsi:type="dcterms:W3CDTF">2008-10-23T20:32:43Z</dcterms:modified>
  <cp:revision>34</cp:revision>
  <dc:subject/>
  <dc:title>Pennsylvania Governor’s Schools of Excellence </dc:title>
</cp:coreProperties>
</file>